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713-D619-4151-95F5-575B4A89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839-2733-453F-A78E-297BAAC3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EEE-898A-4FFB-86B9-258EAD67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96C-E693-4009-B797-D65B79C4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463-9BB4-42D6-9D92-AE759990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B10-68D1-49FF-B36E-799334FD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E73-10CD-4D1D-BC57-8C0813DB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BD2-47DE-4031-A3DC-B5766452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6AE-F293-4ACD-88CC-D6BA47E8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53A-51A9-41AF-B0D0-5265788C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2FE-7060-4710-B905-B48A45A6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247-2A48-4B29-9B7B-0DF64C46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863D-F9FD-4EF3-AC07-21D4865A81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ecision costs and the Strategic Design of Administrative Process and Judicial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blo Spiller and Emerson Ti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Journal of Legal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Jun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7280" y="3808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51920" y="1143000"/>
            <a:ext cx="20574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1143000"/>
            <a:ext cx="243864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3564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11430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04560" y="2133720"/>
            <a:ext cx="1904760" cy="2438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2133720"/>
            <a:ext cx="22860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447920" y="1828800"/>
            <a:ext cx="3124080" cy="2514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8288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2096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99080" y="1447920"/>
            <a:ext cx="40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91640" y="1295280"/>
            <a:ext cx="322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57200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58120" y="3747960"/>
            <a:ext cx="706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27080" y="4495680"/>
            <a:ext cx="96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.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12600" y="4876920"/>
            <a:ext cx="106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.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31240" y="3733920"/>
            <a:ext cx="80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1828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25780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7339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9718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886200" y="1143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38080" y="1143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224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8768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115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1828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50920" y="38160"/>
            <a:ext cx="423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ste exemplo a agência escolheria c* 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a utilidade líquida é maximiz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aumento dos custos de decisão da agência,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reduz seu nível de discrição. Ou seja um aumento de [*a, a*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 aumento dos custos de decisão da CA,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aumenta [*c, c*], o que dá mais discrição à agê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alta de ação da agência não significa que ela está satisfeita com o status quo.  O ganho de utilidade de se mudar pode não compensar a perda em termos de custo de decisão, ou seja, U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x)&gt;U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ao mesmo tempo que U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x) -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&lt;U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a decisão de CA de mudar uma política da agência não necessariamente significa uma mudança de preferência de CA.  Pode ser uma redução de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  Isso pode acontecer por exemplo se o Congresso aumentar o orçamento de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b-jog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 / 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47280" y="3808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73880" y="685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412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0" y="1143000"/>
            <a:ext cx="3124080" cy="1523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1143000"/>
            <a:ext cx="5715000" cy="25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428640" y="1143000"/>
            <a:ext cx="2514600" cy="3581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1143000"/>
            <a:ext cx="2438280" cy="3429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4320" y="68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0" y="1676520"/>
            <a:ext cx="3124080" cy="1600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1676520"/>
            <a:ext cx="5791320" cy="2590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962160" y="2057400"/>
            <a:ext cx="1981080" cy="2819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2057400"/>
            <a:ext cx="190512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1143000"/>
            <a:ext cx="0" cy="358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67880" y="-11160"/>
            <a:ext cx="38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este sub-jogo a escolha da ag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 tomado como d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266720" y="609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07680" y="4724280"/>
            <a:ext cx="113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x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1240" y="350532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2476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1143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= escolha de CA                                      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= x quando CA aceita escolha da agência                   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quando CA reve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pt-BR" sz="32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CA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= reversão da escolha de CA por SC   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pt-BR" sz="32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CA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quando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= x                            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pt-BR" sz="32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CA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= x quando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=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4920" y="115416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7280" y="392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73880" y="6969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1200" y="696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0" y="1154160"/>
            <a:ext cx="3124080" cy="1523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1154160"/>
            <a:ext cx="5715000" cy="25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428640" y="1154160"/>
            <a:ext cx="2514600" cy="3581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1154160"/>
            <a:ext cx="2438280" cy="3429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64320" y="696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0" y="1687680"/>
            <a:ext cx="3124080" cy="1600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1687680"/>
            <a:ext cx="5791320" cy="2590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962160" y="2068560"/>
            <a:ext cx="1981080" cy="2819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2068560"/>
            <a:ext cx="190512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97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4659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1154160"/>
            <a:ext cx="0" cy="358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07680" y="4735440"/>
            <a:ext cx="113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x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81240" y="351648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37450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2476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1143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800600" y="2743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086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00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944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920" y="115416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847280" y="392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73880" y="6969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41200" y="696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1154160"/>
            <a:ext cx="3124080" cy="1523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1154160"/>
            <a:ext cx="5715000" cy="25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28640" y="1154160"/>
            <a:ext cx="2514600" cy="3581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154160"/>
            <a:ext cx="2438280" cy="3429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4320" y="696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0" y="1687680"/>
            <a:ext cx="3124080" cy="1600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1687680"/>
            <a:ext cx="5791320" cy="2590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962160" y="2068560"/>
            <a:ext cx="1981080" cy="2819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2068560"/>
            <a:ext cx="190512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97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4659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14800" y="1154160"/>
            <a:ext cx="0" cy="358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07680" y="4735440"/>
            <a:ext cx="113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x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81240" y="351648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8480" y="37450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2476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7120" y="1143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800600" y="2743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086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944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285640" y="2133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286000" y="114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334120" y="114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97240" y="762120"/>
            <a:ext cx="51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68200" y="76212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1143000"/>
            <a:ext cx="8610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7280" y="392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73880" y="6969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41200" y="696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0" y="1143000"/>
            <a:ext cx="3124080" cy="2046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1154160"/>
            <a:ext cx="5715000" cy="25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428640" y="1154160"/>
            <a:ext cx="2514600" cy="3581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1154160"/>
            <a:ext cx="2438280" cy="3429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64320" y="696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1687680"/>
            <a:ext cx="3124080" cy="1893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1687680"/>
            <a:ext cx="5791320" cy="2590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962160" y="2068560"/>
            <a:ext cx="1981080" cy="2819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2068560"/>
            <a:ext cx="190512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97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4659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1154160"/>
            <a:ext cx="0" cy="358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07680" y="4735440"/>
            <a:ext cx="113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x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81240" y="351648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8480" y="37450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2476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77120" y="1143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800600" y="2743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7086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800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944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361960" y="2133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362320" y="114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334120" y="114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97240" y="762120"/>
            <a:ext cx="51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38040" y="76212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0080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52280" y="31240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467480" y="11426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76212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80" y="762120"/>
            <a:ext cx="45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52280" y="11426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3848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1143000"/>
            <a:ext cx="86104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847280" y="392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73880" y="6969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41200" y="6969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0" y="1143000"/>
            <a:ext cx="3124080" cy="2046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1154160"/>
            <a:ext cx="5715000" cy="25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428640" y="1154160"/>
            <a:ext cx="2514600" cy="3581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3600" y="1154160"/>
            <a:ext cx="2438280" cy="3429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4320" y="696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1687680"/>
            <a:ext cx="3124080" cy="1893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1687680"/>
            <a:ext cx="5791320" cy="2590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962160" y="2068560"/>
            <a:ext cx="1981080" cy="2819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43600" y="2068560"/>
            <a:ext cx="190512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497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38480" y="46594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1154160"/>
            <a:ext cx="0" cy="3581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07680" y="4735440"/>
            <a:ext cx="113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x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81240" y="3516480"/>
            <a:ext cx="86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7450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2476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1143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800600" y="2743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7086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800600" y="1142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944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361960" y="2133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362320" y="114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334120" y="1143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97240" y="762120"/>
            <a:ext cx="51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8040" y="76212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52280" y="31240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467480" y="11426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38880" y="76212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80" y="762120"/>
            <a:ext cx="45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52280" y="11426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3848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008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6480" y="5756400"/>
            <a:ext cx="8105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ste caso CA prefer reverter x para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 Porém se fizer isso 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verte de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ra x, o que é pior para CA.  Logo CA deixa em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6280" y="15256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rema C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6240" y="15256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2880" y="15256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ocracia  e outras Agê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6240" y="4802040"/>
            <a:ext cx="91152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ros Grupos de Inter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809880"/>
            <a:ext cx="144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576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1752480"/>
            <a:ext cx="1144440" cy="137340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182880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0"/>
                </a:moveTo>
                <a:lnTo>
                  <a:pt x="0" y="528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5105520"/>
            <a:ext cx="839880" cy="1440"/>
          </a:xfrm>
          <a:custGeom>
            <a:avLst/>
            <a:gdLst/>
            <a:ahLst/>
            <a:rect l="l" t="t" r="r" b="b"/>
            <a:pathLst>
              <a:path w="529" h="1">
                <a:moveTo>
                  <a:pt x="528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2209680"/>
            <a:ext cx="3240" cy="611280"/>
          </a:xfrm>
          <a:custGeom>
            <a:avLst/>
            <a:gdLst/>
            <a:ahLst/>
            <a:rect l="l" t="t" r="r" b="b"/>
            <a:pathLst>
              <a:path w="2" h="385">
                <a:moveTo>
                  <a:pt x="0" y="384"/>
                </a:move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191120"/>
            <a:ext cx="1440" cy="534960"/>
          </a:xfrm>
          <a:custGeom>
            <a:avLst/>
            <a:gdLst/>
            <a:ahLst/>
            <a:rect l="l" t="t" r="r" b="b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2819520"/>
            <a:ext cx="1440" cy="1373040"/>
          </a:xfrm>
          <a:custGeom>
            <a:avLst/>
            <a:gdLst/>
            <a:ahLst/>
            <a:rect l="l" t="t" r="r" b="b"/>
            <a:pathLst>
              <a:path w="1" h="865">
                <a:moveTo>
                  <a:pt x="0" y="0"/>
                </a:moveTo>
                <a:lnTo>
                  <a:pt x="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671480" y="419112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84440" y="2819520"/>
            <a:ext cx="36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1828800"/>
            <a:ext cx="992160" cy="1220760"/>
          </a:xfrm>
          <a:custGeom>
            <a:avLst/>
            <a:gdLst/>
            <a:ahLst/>
            <a:rect l="l" t="t" r="r" b="b"/>
            <a:pathLst>
              <a:path w="625" h="769">
                <a:moveTo>
                  <a:pt x="0" y="768"/>
                </a:move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286000"/>
            <a:ext cx="1296720" cy="2363760"/>
          </a:xfrm>
          <a:custGeom>
            <a:avLst/>
            <a:gdLst/>
            <a:ahLst/>
            <a:rect l="l" t="t" r="r" b="b"/>
            <a:pathLst>
              <a:path w="817" h="1489">
                <a:moveTo>
                  <a:pt x="0" y="1488"/>
                </a:moveTo>
                <a:lnTo>
                  <a:pt x="816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752480"/>
            <a:ext cx="3201840" cy="1449360"/>
          </a:xfrm>
          <a:custGeom>
            <a:avLst/>
            <a:gdLst/>
            <a:ahLst/>
            <a:rect l="l" t="t" r="r" b="b"/>
            <a:pathLst>
              <a:path w="2017" h="913">
                <a:moveTo>
                  <a:pt x="0" y="912"/>
                </a:move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2286000"/>
            <a:ext cx="992160" cy="1906560"/>
          </a:xfrm>
          <a:custGeom>
            <a:avLst/>
            <a:gdLst/>
            <a:ahLst/>
            <a:rect l="l" t="t" r="r" b="b"/>
            <a:pathLst>
              <a:path w="625" h="1201">
                <a:moveTo>
                  <a:pt x="0" y="1200"/>
                </a:moveTo>
                <a:lnTo>
                  <a:pt x="624" y="0"/>
                </a:lnTo>
              </a:path>
            </a:pathLst>
          </a:custGeom>
          <a:noFill/>
          <a:ln cap="rnd"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424320" y="4199040"/>
            <a:ext cx="1915920" cy="823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981080"/>
            <a:ext cx="1144440" cy="1144800"/>
          </a:xfrm>
          <a:custGeom>
            <a:avLst/>
            <a:gdLst/>
            <a:ahLst/>
            <a:rect l="l" t="t" r="r" b="b"/>
            <a:pathLst>
              <a:path w="721" h="721">
                <a:moveTo>
                  <a:pt x="0" y="0"/>
                </a:moveTo>
                <a:lnTo>
                  <a:pt x="720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2209680"/>
            <a:ext cx="1525680" cy="2440080"/>
          </a:xfrm>
          <a:custGeom>
            <a:avLst/>
            <a:gdLst/>
            <a:ahLst/>
            <a:rect l="l" t="t" r="r" b="b"/>
            <a:pathLst>
              <a:path w="961" h="1537">
                <a:moveTo>
                  <a:pt x="0" y="0"/>
                </a:moveTo>
                <a:lnTo>
                  <a:pt x="960" y="15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45120" y="214560"/>
            <a:ext cx="55335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. Os Atores no Processo Regulató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5105520"/>
            <a:ext cx="106812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886200"/>
            <a:ext cx="1068480" cy="1220760"/>
          </a:xfrm>
          <a:custGeom>
            <a:avLst/>
            <a:gdLst/>
            <a:ahLst/>
            <a:rect l="l" t="t" r="r" b="b"/>
            <a:pathLst>
              <a:path w="673" h="769">
                <a:moveTo>
                  <a:pt x="672" y="0"/>
                </a:moveTo>
                <a:lnTo>
                  <a:pt x="0" y="76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3657600"/>
            <a:ext cx="1144440" cy="137304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360" y="3963960"/>
            <a:ext cx="92880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i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379520" y="3500280"/>
            <a:ext cx="519120" cy="69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03200" y="4427640"/>
            <a:ext cx="595440" cy="671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ic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 maior que for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o maior que será a discrição de CA para reverter a agê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ferência judicial 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quiescenc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 é o produto de três condiç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. CA aceita novo x se CA prefere x a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. CA aceita novo x se CA prefere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x, mas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é alto o suficiente.  U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 &gt; U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x)-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 CA aceita novo x quando CA prefere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 x e t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é baixo, mas sua reversão de x para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seria revertido por SC, isto é 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MT Symbol"/>
                <a:ea typeface="MT Symbol"/>
              </a:rPr>
              <a:t>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[*s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*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e Game A / CA / S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o primeiro jogo não tomamos a possibilidade de revisão por SC como uma restrição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egundo jogo não levamos em conta o comportamento estratégico da agê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mos juntar os dois jogos para levar todos estes elementos em co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151920" y="1143000"/>
            <a:ext cx="20574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09680" y="1143000"/>
            <a:ext cx="2438640" cy="2895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9920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3200" y="11430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04560" y="2133720"/>
            <a:ext cx="1904760" cy="2438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09680" y="2133720"/>
            <a:ext cx="2210040" cy="28191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523520" y="1828800"/>
            <a:ext cx="304812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18288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33920" y="1828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25780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7339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2895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65760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8380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3504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399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788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7040" y="685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09120" y="1143000"/>
            <a:ext cx="6248520" cy="2819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0" y="1143000"/>
            <a:ext cx="2286000" cy="1371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0" y="2362320"/>
            <a:ext cx="228600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218960" y="2362320"/>
            <a:ext cx="563868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04920" y="1143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51920" y="1143000"/>
            <a:ext cx="20574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09680" y="1143000"/>
            <a:ext cx="2438640" cy="2895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9920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743200" y="11430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04560" y="2133720"/>
            <a:ext cx="1904760" cy="2438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09680" y="2133720"/>
            <a:ext cx="2210040" cy="28191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523520" y="1828800"/>
            <a:ext cx="304812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0" y="18288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733920" y="1828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25780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7339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2895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65760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8380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3504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399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18292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557040" y="685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0" y="1143000"/>
            <a:ext cx="6858000" cy="3124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0" y="1143000"/>
            <a:ext cx="2286000" cy="1371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218960" y="2362320"/>
            <a:ext cx="563868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0" y="2362320"/>
            <a:ext cx="228600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43200" y="30481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10552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815328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29360" y="762120"/>
            <a:ext cx="51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35440" y="76212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4038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33520" y="11426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35080" y="762120"/>
            <a:ext cx="45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464680" y="30492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839080" y="6094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lução será a agência escolher aquela política que lhe dá mais utilidade levando em conta qual será a melhor reação de CA e de S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mbre que [*c, c*] é o conjunto de  novas políticas da agência que não serão revertidas por CA dado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mando isso como base há três escolhas para a agê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. Escolher x dentro de [*c, c*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. Escolher x for a de [*c, c*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 Deixar o status quo rein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Escolher x dentro de [*c, c*]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04920" y="1143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151920" y="1143000"/>
            <a:ext cx="20574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09680" y="1143000"/>
            <a:ext cx="2438640" cy="2895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9920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43200" y="11430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04560" y="2133720"/>
            <a:ext cx="1904760" cy="2438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2133720"/>
            <a:ext cx="2210040" cy="28191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1523520" y="1828800"/>
            <a:ext cx="304812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72000" y="18288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1828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25780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37339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2895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65760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8380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3504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399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8292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7040" y="685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0" y="1143000"/>
            <a:ext cx="6858000" cy="3124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1143000"/>
            <a:ext cx="2286000" cy="1371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218960" y="2362320"/>
            <a:ext cx="563868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2362320"/>
            <a:ext cx="228600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30481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10552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815328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929360" y="762120"/>
            <a:ext cx="51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35440" y="76212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4038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45120" y="270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3733560" y="2742840"/>
            <a:ext cx="236196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38920" y="5729400"/>
            <a:ext cx="127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c*) - 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42720" y="6207120"/>
            <a:ext cx="570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te que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[*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] logo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obrevive 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533520" y="11426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5080" y="762120"/>
            <a:ext cx="45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464680" y="30492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839080" y="6094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Escolher x for a de [*c, c*]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04920" y="1143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51920" y="1143000"/>
            <a:ext cx="20574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09680" y="1143000"/>
            <a:ext cx="2438640" cy="2895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920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743200" y="11430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304560" y="2133720"/>
            <a:ext cx="1904760" cy="2438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09680" y="2133720"/>
            <a:ext cx="2210040" cy="28191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523520" y="1828800"/>
            <a:ext cx="304812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0" y="18288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3920" y="1828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25780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7339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8080" y="2895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65760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380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3504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399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8292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57040" y="685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0" y="1143000"/>
            <a:ext cx="6858000" cy="3124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1143000"/>
            <a:ext cx="2286000" cy="1371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218960" y="2362320"/>
            <a:ext cx="563868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0" y="2362320"/>
            <a:ext cx="2286000" cy="1295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3200" y="304812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10552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8153280" y="1143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929360" y="762120"/>
            <a:ext cx="51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35440" y="76212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3520" y="40384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345120" y="270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0532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733560" y="2742840"/>
            <a:ext cx="236196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38920" y="5729400"/>
            <a:ext cx="1272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c*) - 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42720" y="6207120"/>
            <a:ext cx="570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te que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[*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*] logo x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obrevive 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33520" y="11426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5080" y="762120"/>
            <a:ext cx="45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4680" y="304920"/>
            <a:ext cx="45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39080" y="6094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27960" y="304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29200" y="6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29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Regulatory review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- as ações das agências regulatórias podem ser revistas pelas cortes.  Estas tem a função de interpretar qual a intenção das leis passadas pelos legisladores 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legislative intent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.  Portanto as cortes são atores ativos no jogo regulató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e trabalho visa mostrar mais uma forma que o Congresso tem para controlar as agências 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Congressional Dominance),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sta vez através das cor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e faz isto manipulando os recursos disponíveis para as agências e para as cortes de modo a dar uma vantagem para um ou outro no jogo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regulatory review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ência -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urt of Appeals -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rte Suprema - 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da um tem uma política preferida Z, onde Z=A, CA, S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é o status q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x é a política proposta pela agê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gência escolhe x ou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CA escolhe se mantém x ou se reverte a para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SC escolhe se mantém a decisão da CA ou se reverte para o status quo x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custo de reverter são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 t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para CA e SC respectiv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7280" y="3808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8480" y="685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51920" y="1143000"/>
            <a:ext cx="2057400" cy="28954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1143000"/>
            <a:ext cx="2057400" cy="27432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285640" y="1143000"/>
            <a:ext cx="335268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1143000"/>
            <a:ext cx="2590920" cy="2590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368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3564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676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2057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1430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1430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66280" y="3886200"/>
            <a:ext cx="65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29920" y="3276720"/>
            <a:ext cx="79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120" y="3962520"/>
            <a:ext cx="73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8440" y="2362320"/>
            <a:ext cx="77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71160" y="1523880"/>
            <a:ext cx="70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91000" y="3733920"/>
            <a:ext cx="71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2520" y="2362320"/>
            <a:ext cx="77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37880" y="3276720"/>
            <a:ext cx="84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00880" y="1905120"/>
            <a:ext cx="86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ora vamos levar em conta os custos de decis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ubjogo 1 agência -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11430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47280" y="3808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3600" y="6858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3320" y="68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51920" y="1143000"/>
            <a:ext cx="20574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1143000"/>
            <a:ext cx="243864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295280" y="1143000"/>
            <a:ext cx="3276720" cy="2666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1430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35640" y="6858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11430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04560" y="2133720"/>
            <a:ext cx="1904760" cy="24382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2133720"/>
            <a:ext cx="2286000" cy="266688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47920" y="1828800"/>
            <a:ext cx="3124080" cy="2514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828800"/>
            <a:ext cx="2743200" cy="2743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2096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99080" y="1447920"/>
            <a:ext cx="40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91640" y="1295280"/>
            <a:ext cx="322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57200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8120" y="3747960"/>
            <a:ext cx="706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27080" y="4495680"/>
            <a:ext cx="96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.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12600" y="4876920"/>
            <a:ext cx="106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.)-t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31240" y="3733920"/>
            <a:ext cx="80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1828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5780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733920" y="1142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29718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86200" y="1143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38080" y="1143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140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92240" y="8524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8768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11560" y="838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1828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4400" y="6060960"/>
            <a:ext cx="87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[*c, c*] é o non-revesal set de CA.  [*a, a*] é o non-reversal ser de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8T19:26:05Z</dcterms:created>
  <dc:creator>Mueller</dc:creator>
  <dc:description/>
  <dc:language>en-US</dc:language>
  <cp:lastModifiedBy>Carlos Pereira</cp:lastModifiedBy>
  <dcterms:modified xsi:type="dcterms:W3CDTF">2004-09-22T20:32:21Z</dcterms:modified>
  <cp:revision>9</cp:revision>
  <dc:subject/>
  <dc:title>Decision costs and the Strategic Design of Administrative Process and Judicial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3229771</vt:r8>
  </property>
  <property fmtid="{D5CDD505-2E9C-101B-9397-08002B2CF9AE}" pid="3" name="_AuthorEmail">
    <vt:lpwstr>pereirace@uol.com.br</vt:lpwstr>
  </property>
  <property fmtid="{D5CDD505-2E9C-101B-9397-08002B2CF9AE}" pid="4" name="_AuthorEmailDisplayName">
    <vt:lpwstr>Carlos Pereira</vt:lpwstr>
  </property>
  <property fmtid="{D5CDD505-2E9C-101B-9397-08002B2CF9AE}" pid="5" name="_EmailSubject">
    <vt:lpwstr>site</vt:lpwstr>
  </property>
</Properties>
</file>