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07188" cy="9982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7C43-8967-44AE-8374-9AEE82A10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A03C-9FE4-4A61-A6F5-90C55DD58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2B99-124A-4D91-ADBE-84A584B55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D0C8-6511-46B1-9359-A17CE4CB0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843F0-5F11-4367-9BA2-F31D52C23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8744B-9F90-4E0B-AF02-D05AFBD75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1FED3-49EE-4704-A415-D7B129D1C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4CACC-1673-497B-837F-7B928FA96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F95D9-474C-476B-833A-2B64034FE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BD051-3B72-47A3-956B-2337ACB76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47CA1-A5DA-45F6-A228-A2E2620B2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6AA8-9E18-4452-B071-4036DEBFB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7FA9D-F29A-43AC-BAB2-7F8B8BA0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8A737-60DD-4C6F-AC9B-00FA8E01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5286C-3431-4595-8C01-A8E7A29EE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8B53F-25C1-4B2D-95E4-312BF6886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287AB-6A2D-45FC-AE69-F355EE106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C5D7-8483-4839-83FE-315D9F0D5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1BCC-585A-4304-8E64-F1221B4D2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6C40-C1F1-4D08-875F-5BEAA9457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2FB7-83FB-4410-A224-35E53C423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5810-4E69-459D-B052-AD82864D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F451-AA02-4EA2-86DB-A34EFF66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5FC7-369A-4948-A72C-BFF0473D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AB669-DDC5-4665-B7AE-20B87EC5DAFD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20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5C128-A2C5-47B5-AB5F-893F0D0BC486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72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6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240" y="15998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ccffff"/>
                </a:solidFill>
                <a:latin typeface="Impact"/>
              </a:rPr>
              <a:t>Simulação a eventos discretos</a:t>
            </a:r>
            <a:endParaRPr b="0" lang="en-US" sz="4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1640" y="3123720"/>
            <a:ext cx="4267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Impact"/>
              </a:rPr>
              <a:t>Prof. Luiz Ricardo Pinto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3" name=""/>
          <p:cNvSpPr/>
          <p:nvPr/>
        </p:nvSpPr>
        <p:spPr>
          <a:xfrm>
            <a:off x="3505320" y="6248520"/>
            <a:ext cx="5410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Impact"/>
              </a:rPr>
              <a:t>Universidade Federal de</a:t>
            </a:r>
            <a:r>
              <a:rPr b="0" lang="en-US" sz="2400" spc="-1" strike="noStrike">
                <a:solidFill>
                  <a:srgbClr val="ffff00"/>
                </a:solidFill>
                <a:latin typeface="Impact"/>
              </a:rPr>
              <a:t> Minas Gera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cffff"/>
                </a:solidFill>
                <a:latin typeface="Impact"/>
              </a:rPr>
              <a:t>Principais desvantagens do uso de simulação / Amenizadore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21333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Construção de modelos exige treinamento especial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1119960" indent="-223920">
              <a:spcBef>
                <a:spcPts val="601"/>
              </a:spcBef>
              <a:buClr>
                <a:srgbClr val="ffff00"/>
              </a:buClr>
              <a:buFont typeface="Impac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Impact"/>
              </a:rPr>
              <a:t>Uso de simuladores / “templates”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27920" indent="-28008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Dificuldade na interpretação dos resultado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1119960" indent="-223920">
              <a:spcBef>
                <a:spcPts val="601"/>
              </a:spcBef>
              <a:buClr>
                <a:srgbClr val="ffff00"/>
              </a:buClr>
              <a:buFont typeface="Impac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Impact"/>
              </a:rPr>
              <a:t>Aumento da capacidade de análise dos software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27920" indent="-28008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Modelagem pode consumir tempo e ter custos alto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1119960" indent="-223920">
              <a:spcBef>
                <a:spcPts val="601"/>
              </a:spcBef>
              <a:buClr>
                <a:srgbClr val="ffff00"/>
              </a:buClr>
              <a:buFont typeface="Impac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Impact"/>
              </a:rPr>
              <a:t>Aumento da capacidade de construção de modelos dos software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6600"/>
                </a:solidFill>
                <a:latin typeface="Impact"/>
              </a:rPr>
              <a:t>Áreas de aplicação da simulação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19320" y="2044440"/>
            <a:ext cx="7772400" cy="45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Impact"/>
              </a:rPr>
              <a:t>Indústria de manufatura,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2640" indent="-3326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Impact"/>
              </a:rPr>
              <a:t>Sistemas públicos,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2640" indent="-3326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Impact"/>
              </a:rPr>
              <a:t>Sistemas de transporte,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2640" indent="-3326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Impact"/>
              </a:rPr>
              <a:t>Sistemas de lazer / entretenimento,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2640" indent="-3326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Impact"/>
              </a:rPr>
              <a:t>Sistemas de computação,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2640" indent="-3326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Impact"/>
              </a:rPr>
              <a:t>Mineração,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2640" indent="-3326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Impact"/>
              </a:rPr>
              <a:t>Siderurgia,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2640" indent="-3326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Impact"/>
              </a:rPr>
              <a:t>Etc ..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a50021"/>
                </a:solidFill>
                <a:latin typeface="Impact"/>
              </a:rPr>
              <a:t>Etapas de um estudo de simulação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18960" y="2044800"/>
            <a:ext cx="792468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4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800000"/>
                </a:solidFill>
                <a:latin typeface="Impact"/>
              </a:rPr>
              <a:t>Formulação do problema</a:t>
            </a:r>
            <a:endParaRPr b="0" lang="en-US" sz="26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64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800000"/>
                </a:solidFill>
                <a:latin typeface="Impact"/>
              </a:rPr>
              <a:t>Estabelecimento de objetivos</a:t>
            </a:r>
            <a:endParaRPr b="0" lang="en-US" sz="26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64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800000"/>
                </a:solidFill>
                <a:latin typeface="Impact"/>
              </a:rPr>
              <a:t>Construção do modelo lógico-matemático</a:t>
            </a:r>
            <a:endParaRPr b="0" lang="en-US" sz="26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64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800000"/>
                </a:solidFill>
                <a:latin typeface="Impact"/>
              </a:rPr>
              <a:t>Levantamento dos dados</a:t>
            </a:r>
            <a:endParaRPr b="0" lang="en-US" sz="26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64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800000"/>
                </a:solidFill>
                <a:latin typeface="Impact"/>
              </a:rPr>
              <a:t>Construção do modelo computacional</a:t>
            </a:r>
            <a:endParaRPr b="0" lang="en-US" sz="26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64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800000"/>
                </a:solidFill>
                <a:latin typeface="Impact"/>
              </a:rPr>
              <a:t>Verificação do modelo computacional</a:t>
            </a:r>
            <a:endParaRPr b="0" lang="en-US" sz="26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64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800000"/>
                </a:solidFill>
                <a:latin typeface="Impact"/>
              </a:rPr>
              <a:t>Validação do modelo computacional</a:t>
            </a:r>
            <a:endParaRPr b="0" lang="en-US" sz="26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64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800000"/>
                </a:solidFill>
                <a:latin typeface="Impact"/>
              </a:rPr>
              <a:t>Implementação</a:t>
            </a:r>
            <a:endParaRPr b="0" lang="en-US" sz="26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6600"/>
                </a:solidFill>
                <a:latin typeface="Impact"/>
              </a:rPr>
              <a:t>Exemplo de aplicação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19320" y="2044440"/>
            <a:ext cx="7772400" cy="45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a empresa deseja estudar duas novas propostas para a forma como os seus produtos serão levados da linha de produção até o ponto onde os caminhões são carregados. Atualmente, os operadores empurram os “pallets”, que são dotados de rodas, até a área, consumindo muito tempo e esforço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etende-se, a priori, que este processo seja feito por uma empilhadeira. A produção sai de dois pontos da linha, distantes 80 m um do outro. A distância dos dois pontos até o ponto de carga é a mesma e igual a 130 m. Sabe-se que as duas linhas preenchem uma caixa com produtos acabados a intervalos de tempo que seguem uma distribuição normal com média de 13 min e desvio padrão de 1.3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6600"/>
                </a:solidFill>
                <a:latin typeface="Impact"/>
              </a:rPr>
              <a:t>Exemplo de aplicação</a:t>
            </a:r>
            <a:r>
              <a:rPr b="0" lang="pt-BR" sz="1600" spc="-1" strike="noStrike">
                <a:solidFill>
                  <a:srgbClr val="ff6600"/>
                </a:solidFill>
                <a:latin typeface="Impact"/>
              </a:rPr>
              <a:t> (Fonte: Apostila Arena)</a:t>
            </a:r>
            <a:endParaRPr b="0" lang="en-US" sz="1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19320" y="2044440"/>
            <a:ext cx="7772400" cy="45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empilhadeira trafega a uma velocidade de 50 m/min e o tempo para carregar o caminhão segue uma distribuição normal com média de 1 min e desvio padrão de 0.4 min. Os caminhões estão sempre disponíveis, e a cada 2 caixas carregadas, seguem até a portaria da empresa, levando no percurso um tempo que segue uma distribuição normal com média de 5 min e desvio padrão de 0.9.  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segunda alternativa é a instalação de 2 esteiras, com velocidade de 6 m/min e células de 1 m, ligando os dois pontos da produção até a área de carga. O tempo de carga dos caminhões permanece o mesmo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seja-se simular as duas alternativas, contando o número de caminhões que passam pela portaria da fábrica, verificando se ambos os sistemas atendem à taxa de produção das linhas.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6600"/>
                </a:solidFill>
                <a:latin typeface="Impact"/>
              </a:rPr>
              <a:t>Introdução à pesquisa operacional</a:t>
            </a:r>
            <a:endParaRPr b="0" lang="en-US" sz="4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Impact"/>
              </a:rPr>
              <a:t>Origem da pesquisa operacional: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Impact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Impact"/>
              </a:rPr>
              <a:t>Abordagem científica: II Guerra Mundial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Impact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Impact"/>
              </a:rPr>
              <a:t>Motivação para a abordagem científica: “A tomada de decisões baseada em sentimento e experiências passadas não implica na otimização das soluções”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Impact"/>
              </a:rPr>
              <a:t>Características Importantes da P.O. :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Impact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Impact"/>
              </a:rPr>
              <a:t>Aspecto multidisciplinar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Impact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Impact"/>
              </a:rPr>
              <a:t>Utilização de modelos 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6600"/>
                </a:solidFill>
                <a:latin typeface="Impact"/>
              </a:rPr>
              <a:t>Introdução à pesquisa operacional</a:t>
            </a:r>
            <a:endParaRPr b="0" lang="en-US" sz="4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Impact"/>
              </a:rPr>
              <a:t>Ciências fundamentais: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Impact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Impact"/>
              </a:rPr>
              <a:t>Matemática, Estatística, Economia e Computação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Impact"/>
              </a:rPr>
              <a:t>Enfoques da P.O. :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Impact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Impact"/>
              </a:rPr>
              <a:t>Quantitativo</a:t>
            </a:r>
            <a:r>
              <a:rPr b="0" lang="pt-BR" sz="2400" spc="-1" strike="noStrike">
                <a:solidFill>
                  <a:srgbClr val="000000"/>
                </a:solidFill>
                <a:latin typeface="Impact"/>
              </a:rPr>
              <a:t>: visa aplicar métodos matemáticos e estatísticos para resolver problemas de tomada de decisão. É o enfoque mais tradicional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Impact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Impact"/>
              </a:rPr>
              <a:t>Qualitativo:</a:t>
            </a:r>
            <a:r>
              <a:rPr b="0" lang="pt-BR" sz="2400" spc="-1" strike="noStrike">
                <a:solidFill>
                  <a:srgbClr val="000000"/>
                </a:solidFill>
                <a:latin typeface="Impact"/>
              </a:rPr>
              <a:t> Metodologia de formulação dos problemas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Impact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Impact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Impact"/>
              </a:rPr>
              <a:t>Na abordagem qualitativa, o enfoque central é deslocado do método de solução (geralmente um algoritmo matemático complexo) para a formulação e modelagem, ou seja, para o diagnóstico do problema.”  (Andrade,1989)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6600"/>
                </a:solidFill>
                <a:latin typeface="Impact"/>
              </a:rPr>
              <a:t>Introdução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Impact"/>
              </a:rPr>
              <a:t>Origens da simulação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Impact"/>
              </a:rPr>
              <a:t>Simulação = Imitação da realidade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Impact"/>
              </a:rPr>
              <a:t>Modelos: Conjunto de suposições sobre a operação do sistema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523880" y="4724280"/>
            <a:ext cx="6629400" cy="1752480"/>
            <a:chOff x="1523880" y="4724280"/>
            <a:chExt cx="6629400" cy="1752480"/>
          </a:xfrm>
        </p:grpSpPr>
        <p:sp>
          <p:nvSpPr>
            <p:cNvPr id="147" name=""/>
            <p:cNvSpPr/>
            <p:nvPr/>
          </p:nvSpPr>
          <p:spPr>
            <a:xfrm>
              <a:off x="1523880" y="4724280"/>
              <a:ext cx="2667240" cy="17524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419720" y="5486040"/>
              <a:ext cx="12952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01640" y="5181480"/>
              <a:ext cx="2354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ff"/>
                  </a:solidFill>
                  <a:latin typeface="Times New Roman"/>
                </a:rPr>
                <a:t>Realidad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5867280" y="4876560"/>
              <a:ext cx="2286000" cy="1371600"/>
              <a:chOff x="5867280" y="4876560"/>
              <a:chExt cx="2286000" cy="1371600"/>
            </a:xfrm>
          </p:grpSpPr>
          <p:sp>
            <p:nvSpPr>
              <p:cNvPr id="151" name=""/>
              <p:cNvSpPr/>
              <p:nvPr/>
            </p:nvSpPr>
            <p:spPr>
              <a:xfrm>
                <a:off x="5867280" y="4876560"/>
                <a:ext cx="2286000" cy="1371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173640" y="5181480"/>
                <a:ext cx="18176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4000" spc="-1" strike="noStrike">
                    <a:solidFill>
                      <a:srgbClr val="ffffff"/>
                    </a:solidFill>
                    <a:latin typeface="Times New Roman"/>
                  </a:rPr>
                  <a:t>Modelo</a:t>
                </a:r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6600"/>
                </a:solidFill>
                <a:latin typeface="Impact"/>
              </a:rPr>
              <a:t>Tipos de modelo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90720" y="2362320"/>
            <a:ext cx="76960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Impact"/>
              </a:rPr>
              <a:t>Modelos de Otimização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60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Impact"/>
              </a:rPr>
              <a:t>Adequado quando todas as variáveis do sistema são determinística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60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Impact"/>
              </a:rPr>
              <a:t>Seleção de uma única alternativa via análise matemática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60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Impact"/>
              </a:rPr>
              <a:t>A alternativa selecionada é considerada ótima sob um determinado aspecto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6600"/>
                </a:solidFill>
                <a:latin typeface="Impact"/>
              </a:rPr>
              <a:t>Tipos de modelo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90720" y="2437920"/>
            <a:ext cx="76960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Impact"/>
              </a:rPr>
              <a:t>Modelos de Simulação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60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Impact"/>
              </a:rPr>
              <a:t>Adequado quando o sistema apresenta variáveis estocástica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60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Impact"/>
              </a:rPr>
              <a:t>Alto grau de liberdade / flexibilidade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60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Impact"/>
              </a:rPr>
              <a:t>Criação de cenários futuro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60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Impact"/>
              </a:rPr>
              <a:t>Análise de perguntas do tipo “E se?”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6600"/>
                </a:solidFill>
                <a:latin typeface="Impact"/>
              </a:rPr>
              <a:t>Tipos de modelo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Impact"/>
              </a:rPr>
              <a:t>Modelos de Simulação X Otimização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05600" indent="-271440">
              <a:spcBef>
                <a:spcPts val="60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Impact"/>
              </a:rPr>
              <a:t>Sempre que possível usar modelos de otimização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05600" indent="-271440">
              <a:spcBef>
                <a:spcPts val="60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Impact"/>
              </a:rPr>
              <a:t>Grande parte dos sistemas encontrados na prática são complexos, envolvem variáveis aleatórias e não apresentam soluções analíticas. Neste caso: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2" marL="1085760" indent="-217080">
              <a:spcBef>
                <a:spcPts val="601"/>
              </a:spcBef>
              <a:buClr>
                <a:srgbClr val="ffffff"/>
              </a:buClr>
              <a:buFont typeface="Impac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Impact"/>
              </a:rPr>
              <a:t>Modelos de otimização  fornecerão soluções exatas, mas os modelos, normalmente, serão aproximados. 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2" marL="1085760" indent="-217080">
              <a:spcBef>
                <a:spcPts val="601"/>
              </a:spcBef>
              <a:buClr>
                <a:srgbClr val="ffffff"/>
              </a:buClr>
              <a:buFont typeface="Impac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Impact"/>
              </a:rPr>
              <a:t>Modelos de simulação fornecerão soluções aproximadas mas os modelos serão mais exatos. 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6600"/>
                </a:solidFill>
                <a:latin typeface="Impact"/>
              </a:rPr>
              <a:t>Modelos de simulação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Impact"/>
              </a:rPr>
              <a:t>Tipos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20720" indent="-27720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Impact"/>
              </a:rPr>
              <a:t>Estáticos ou dinâmico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20720" indent="-27720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Impact"/>
              </a:rPr>
              <a:t>Determinísticos ou estocástico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20720" indent="-27720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Impact"/>
              </a:rPr>
              <a:t>Discretos ou contínuo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32640" indent="-3326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Impact"/>
              </a:rPr>
              <a:t>Simulação estocástica a eventos discretos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20720" indent="-27720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Impact"/>
              </a:rPr>
              <a:t>Análise por métodos numéricos ao invés métodos analítico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20720" indent="-27720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Impact"/>
              </a:rPr>
              <a:t>Modelos são rodados e analisados ao invés de solucionado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cffff"/>
                </a:solidFill>
                <a:latin typeface="Impact"/>
              </a:rPr>
              <a:t>Principais vantagens do uso de simulação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Novas políticas e procedimentos operacionais podem ser testados sem interrupção do sistema real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Determinação de gargalos do sistema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Determinação de como o sistema realmente opera ao invés de como as pessoas pensam que ele opera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Análise de cenários futuros (“E se?”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30T00:36:10Z</dcterms:created>
  <dc:creator>Luiz Ricardo Pinto</dc:creator>
  <dc:description/>
  <dc:language>en-US</dc:language>
  <cp:lastModifiedBy>Luiz</cp:lastModifiedBy>
  <dcterms:modified xsi:type="dcterms:W3CDTF">2003-10-28T20:21:45Z</dcterms:modified>
  <cp:revision>33</cp:revision>
  <dc:subject/>
  <dc:title>TECMINE</dc:title>
</cp:coreProperties>
</file>